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FD5-2EDD-4172-9653-EA751EF0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DB4-AEB7-4C40-A1D2-0453B2EC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073-8FA4-433B-86B9-D40A89A9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F12-848E-4259-A949-E35A531B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7393-A192-4687-B1C2-750F6484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86D-5457-4994-886A-F828F677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B39-73C5-4A0D-87F3-56C4C87A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AAC-2C1F-46E5-94E1-F7E7BACA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4E7-BEF1-467C-B137-201B8207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FCA-1947-40A1-BC3C-B435492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C0D8-0923-4F8F-89AB-003ECE50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7AE-64F6-4583-A258-946259AE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D4A0-7F57-4864-8DED-4E446A2AD4D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1295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ff3300"/>
                </a:solidFill>
                <a:latin typeface="Arial"/>
              </a:rPr>
              <a:t>مشروع تصميم درس بطرق معلوماتية</a:t>
            </a:r>
            <a:br>
              <a:rPr sz="2400"/>
            </a:b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ADDIE</a:t>
            </a:r>
            <a:r>
              <a:rPr b="1" lang="ar-MA" sz="2400" spc="-1" strike="noStrike">
                <a:solidFill>
                  <a:srgbClr val="ff3300"/>
                </a:solidFill>
                <a:latin typeface="Arial"/>
              </a:rPr>
              <a:t>حسب نمودج</a:t>
            </a:r>
            <a:r>
              <a:rPr b="0" lang="ar-MA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1699920"/>
            <a:ext cx="7632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000" spc="-1" strike="noStrike" u="sng">
                <a:solidFill>
                  <a:srgbClr val="99cc00"/>
                </a:solidFill>
                <a:uFillTx/>
                <a:latin typeface="Arial"/>
              </a:rPr>
              <a:t>تحليل المشروع</a:t>
            </a:r>
            <a:r>
              <a:rPr b="1" lang="ar-MA" sz="2000" spc="-1" strike="noStrike" u="sng">
                <a:solidFill>
                  <a:srgbClr val="99cc00"/>
                </a:solidFill>
                <a:uFillTx/>
                <a:latin typeface="Arial"/>
              </a:rPr>
              <a:t> </a:t>
            </a:r>
            <a:r>
              <a:rPr b="1" lang="ar-MA" sz="2000" spc="-1" strike="noStrike" u="sng">
                <a:solidFill>
                  <a:srgbClr val="99cc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1 - </a:t>
            </a: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الهدف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: تحقيق كفاية معينة مرتبطة بموضوع التنفس وفق الاطار المرجع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للسنة الاولى إعدادي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2 –</a:t>
            </a: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الفئة المستهدفة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: تلامدة السنة الاولى إعدادي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        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لهم مكتسبات سابقة حول الموضوع في السلك الابتدائي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ولهم مستوى دزاسي ضعيف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3- </a:t>
            </a: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الموضوع :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التنفس في أوساط مختلفة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مدة الانجاز : 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ساعات   موزعة على ثلات حصص أسبوعية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4- </a:t>
            </a: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ظروف العمل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: خارج أوقات العمل في البيت و في المركز المغربي الكوري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5- </a:t>
            </a:r>
            <a:r>
              <a:rPr b="0" lang="ar-MA" sz="1600" spc="-1" strike="noStrike">
                <a:solidFill>
                  <a:srgbClr val="000099"/>
                </a:solidFill>
                <a:latin typeface="Arial"/>
              </a:rPr>
              <a:t>الوسائل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: - الحاسوب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مؤطري المركز المغربي الكوري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متخصص في البرمجة المعلوماتية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مدة إنجاز المشروع : شهران</a:t>
            </a: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1600" spc="-1" strike="noStrike">
                <a:solidFill>
                  <a:srgbClr val="000000"/>
                </a:solidFill>
                <a:latin typeface="Arial"/>
              </a:rPr>
              <a:t>التخطيط : شهر – الإنجاز : أسبوعان – التطبيق : أسبوع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ff3300"/>
                </a:solidFill>
                <a:latin typeface="Arial"/>
              </a:rPr>
              <a:t>الموضوع : التنفس في أوساط مختل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4360" y="1052640"/>
          <a:ext cx="8218440" cy="6097320"/>
        </p:xfrm>
        <a:graphic>
          <a:graphicData uri="http://schemas.openxmlformats.org/drawingml/2006/table">
            <a:tbl>
              <a:tblPr/>
              <a:tblGrid>
                <a:gridCol w="410364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السيناريو</a:t>
                      </a:r>
                      <a:r>
                        <a:rPr b="0" lang="ar-MA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التصميم</a:t>
                      </a:r>
                      <a:r>
                        <a:rPr b="1" lang="ar-MA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0" lang="ar-MA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ياغة الكفاية وفق الاطار المرجعي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ستحضار مكتسبات التلاميد و تمتلاتهم حول الموضوع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ياغة مشكل علمي يتعلق بالموضوع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هداف المحددة في البرنامج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وزيع الاهداف إلى حصص دراسية حسب الغلاف الزمني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كل الوسائل الممكن توضيفها لبناء الكفا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متدادات أفقية وإمتدادات عمودية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ثال لكفاية نوعية مرتبطة بالموضوع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 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كتسنات القبلية التي لها علاقة بالموضوع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شكل علمي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–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هداف المرتبطة بالموضوع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صص الدراسية المرتبطة بالموضوع وغلافها الزمني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صة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 إبراز التبادلات الغازية التنفسية بين   الكاءن الحي ووسط عيشه / ساعة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صة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 التنفس في الوسط الهوائي : عند   الانسان والحلزون والجراد والنبات  /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عات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صة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 التنفس في الوسط المائي : عند                السمكة ونبات مائي / ساعتان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عينات الديدكتيكية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 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متدادات الموضوع</a:t>
                      </a:r>
                      <a:r>
                        <a:rPr b="0" lang="ar-M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MA" sz="2400" spc="-1" strike="noStrike" u="sng">
                <a:solidFill>
                  <a:srgbClr val="ff3300"/>
                </a:solidFill>
                <a:uFillTx/>
                <a:latin typeface="Arial"/>
              </a:rPr>
              <a:t>الحصة </a:t>
            </a:r>
            <a:r>
              <a:rPr b="0" lang="ar-MA" sz="2400" spc="-1" strike="noStrike" u="sng">
                <a:solidFill>
                  <a:srgbClr val="ff3300"/>
                </a:solidFill>
                <a:uFillTx/>
                <a:latin typeface="Arial"/>
              </a:rPr>
              <a:t>1</a:t>
            </a:r>
            <a:r>
              <a:rPr b="0" lang="ar-MA" sz="2400" spc="-1" strike="noStrike">
                <a:solidFill>
                  <a:srgbClr val="ff3300"/>
                </a:solidFill>
                <a:latin typeface="Arial"/>
              </a:rPr>
              <a:t> :إبراز التبادلات الغازية التنفسية بين الكائن الحي ووسط عيش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803160"/>
          <a:ext cx="8229600" cy="6064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يناريو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صميم</a:t>
                      </a:r>
                      <a:r>
                        <a:rPr b="1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ستحضار مكتسبات التلاميد السابقة وتمتلاتهم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كتسبات القبلية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ديد الأهداف حسب الإطار المرجعي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هداف التعلم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وضيف كل الوسائل لتحقيق الاهداف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عامات الديداكتيكية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ياغة وضعية مشكلة تتضمن تساؤلات  محفزةعلى إنجاز الأنشطة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ضعية مشكل ديدكتيكية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إنجاز أنشطة للإجابة عن التساؤلات المطروحة في وضعية المشكلة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نشطة المقترحة لحل وضعية</a:t>
                      </a:r>
                      <a:r>
                        <a:rPr b="0" lang="ar-M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كل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شاط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شاط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شاظ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شاط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صيلة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 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قويم تكويني</a:t>
                      </a:r>
                      <a:r>
                        <a:rPr b="0" lang="ar-M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MA" sz="2400" spc="-1" strike="noStrike">
                <a:solidFill>
                  <a:srgbClr val="ff3300"/>
                </a:solidFill>
                <a:latin typeface="Arial"/>
              </a:rPr>
              <a:t>مخطط القصة للحصة الأول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692280"/>
          <a:ext cx="8507160" cy="5452920"/>
        </p:xfrm>
        <a:graphic>
          <a:graphicData uri="http://schemas.openxmlformats.org/drawingml/2006/table">
            <a:tbl>
              <a:tblPr/>
              <a:tblGrid>
                <a:gridCol w="1371600"/>
                <a:gridCol w="871560"/>
                <a:gridCol w="934920"/>
                <a:gridCol w="865080"/>
                <a:gridCol w="863640"/>
                <a:gridCol w="3600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دقيق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عطيات علمية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جربة /مناول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يديو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ص / صورة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صميم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كتسبات القبلية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هداف التعلم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عامات الديداكتيكية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ضعية مشكل ديدكتيكية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أنشطة المقترحة لحل وضعية المشكل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شاط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شاط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شاظ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شاط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حصيلة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 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قويم تكويني</a:t>
                      </a:r>
                      <a:r>
                        <a:rPr b="0" lang="ar-M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0:16:15Z</dcterms:created>
  <dc:creator>Hamid</dc:creator>
  <dc:description/>
  <dc:language>en-US</dc:language>
  <cp:lastModifiedBy>Hamid</cp:lastModifiedBy>
  <dcterms:modified xsi:type="dcterms:W3CDTF">2010-11-04T00:06:41Z</dcterms:modified>
  <cp:revision>14</cp:revision>
  <dc:subject/>
  <dc:title>مشروع تصميم درس بطرق معلوماتية ADDIEنمودج  </dc:title>
</cp:coreProperties>
</file>